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642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6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CF05F-8839-4FDF-B82B-D954621B24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B0605-AD9E-4565-B0F4-E7439FC4A0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24160" cy="37702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1"/>
          <p:cNvSpPr/>
          <p:nvPr/>
        </p:nvSpPr>
        <p:spPr>
          <a:xfrm>
            <a:off x="4398840" y="9555120"/>
            <a:ext cx="33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27A44-9C52-4B9A-9F48-412AC6942D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371600" y="763560"/>
            <a:ext cx="502128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4734360"/>
            <a:ext cx="8817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400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36800" y="212868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8320" y="212868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473436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36800" y="473436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8320" y="4734360"/>
            <a:ext cx="2838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560" y="301680"/>
            <a:ext cx="88027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4000" y="473436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4000" y="2128680"/>
            <a:ext cx="43027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4734360"/>
            <a:ext cx="88171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457200" y="1746360"/>
            <a:ext cx="9144000" cy="1440"/>
          </a:xfrm>
          <a:prstGeom prst="line">
            <a:avLst/>
          </a:prstGeom>
          <a:ln w="292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9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2" marL="1287360" indent="-2127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3" marL="1719360" indent="-208080">
              <a:lnSpc>
                <a:spcPct val="9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4" marL="2151000" indent="-209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5" marL="2151000" indent="-209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6" marL="2151000" indent="-20952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781200" y="1517760"/>
            <a:ext cx="190152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5649840" y="7132680"/>
            <a:ext cx="4056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777777"/>
                </a:solidFill>
                <a:latin typeface="Arial"/>
              </a:rPr>
              <a:t>Cambridge, 19 September, 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audia@laptop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5640" y="2047680"/>
            <a:ext cx="8818560" cy="51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World Implementation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udia Urrea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PC – Learning team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laudia@laptop.or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http://www.laptop.org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Brainstorm session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41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Goals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2128320"/>
            <a:ext cx="881856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7640" indent="0">
              <a:lnSpc>
                <a:spcPct val="92000"/>
              </a:lnSpc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The overall goal for the laptop initiative is to develop a world-class educational system to enable full development, full participation, and leadership in the 21st century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1281240" indent="-71136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case at the macro level: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81240" indent="-71136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case at the micro level: each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81240" indent="-71136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present, the current system, just as in every other country, cannot meet these needs, particularly in the country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Considerations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Core team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and pedagogical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Capacity building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agog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ustainability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partnerships (universities and NG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-bas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8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8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8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Plan for Implementation</a:t>
            </a: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Distribution plan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Assessment framework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Goals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Work with the core team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Find the resources needed to meet those goals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Identify possible partners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Influence the design of your program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0">
              <a:lnSpc>
                <a:spcPct val="9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Distribution plan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7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l"/>
              </a:rPr>
              <a:t>Scale: regions, the schools show dramatic improvement. 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9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easier to support; providing infrastructure and resources is far more cost-effectiv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hools and teachers help each oth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has its most promising opportunity for real, sustainable impr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l"/>
              </a:rPr>
              <a:t>Focus on the areas of improvement along three primary dimensions:</a:t>
            </a:r>
            <a:endParaRPr b="0" lang="en-US" sz="28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9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of greatest need: Use the laptops where the existing system is falling short to cover what current methods lack. Often this means focusing on rural and isolated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where a significant improvement can be made relatively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7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Infrastructure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chool server + APs</a:t>
            </a: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Connectivity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marL="423720" indent="-31896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855720" indent="-2858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Support 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65000" indent="-66024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Technical support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1147680" indent="0">
              <a:lnSpc>
                <a:spcPct val="11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5000" indent="-66024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Pedagogical support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1147680" indent="-57780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going teacher development and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7780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digita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ountry’s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7780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ong exempl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laptop schools and commun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5000" indent="-660240">
              <a:lnSpc>
                <a:spcPct val="9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OLPC support 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1147680" indent="0">
              <a:lnSpc>
                <a:spcPct val="11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69960" indent="0">
              <a:lnSpc>
                <a:spcPct val="90000"/>
              </a:lnSpc>
              <a:spcAft>
                <a:spcPts val="850"/>
              </a:spcAft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560" y="301680"/>
            <a:ext cx="88027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Assessment framework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128680"/>
            <a:ext cx="8817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65000"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l"/>
              </a:rPr>
              <a:t>Several dimensions of assessment:</a:t>
            </a:r>
            <a:endParaRPr b="0" lang="en-US" sz="3200" spc="-1" strike="noStrike">
              <a:solidFill>
                <a:srgbClr val="000000"/>
              </a:solidFill>
              <a:latin typeface="ARil"/>
            </a:endParaRPr>
          </a:p>
          <a:p>
            <a:pPr lvl="1" marL="1147680" indent="-57780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0">
              <a:lnSpc>
                <a:spcPct val="11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 and influence current evaluation meth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7780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act at the social level (families and commun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-577800">
              <a:lnSpc>
                <a:spcPct val="110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lementation of the project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7680" indent="0">
              <a:lnSpc>
                <a:spcPct val="11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enable determining the difference between the laptop initiative as concept and how well it was implemen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8-09-19T16:34:47Z</dcterms:modified>
  <cp:revision>30</cp:revision>
  <dc:subject/>
  <dc:title>OLPC</dc:title>
</cp:coreProperties>
</file>